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4DC4-561D-4667-A35D-C42CA168C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B54E-5563-483B-9995-F53698162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1310-BAB2-4661-8C70-1F236DE62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A56D-7999-49E1-B3E6-3B15A975B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2B64-538C-4704-8B20-8C41137EA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9E1F9-4B0E-48B5-9CEE-813C12900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B2DD-0949-4DE4-BFCE-47F9E85A5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4D75-A703-4ACE-AFB2-ABBD8A1D6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8CCE-83A7-4093-A276-5BDA5E204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E859-63B5-4B84-926D-C4268E996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6902-08F4-43FC-A140-A9AE1A8C1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E858-2954-4DEE-B992-0D380821C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D361-6B8D-4848-BC54-26B02D0EA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AC68-C501-45EB-94E4-44D9077E9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2C76-FFF0-438B-A41A-472AB59F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5B86-2373-41DB-9321-1011FFE87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DB96-0D0C-4102-B130-B8DC6AC42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8650-86F6-44A7-821F-9B31356C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0034-D6E7-4B10-8D6B-FF029D99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FF5E-C403-47D6-B0B2-B29AD4ED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3B55-D862-46FE-9598-4885E5CC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BA3B-AF88-4995-B0E8-072F80C0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AB3C-5BE1-4692-B305-6746D4DA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0D43-CD31-4861-96A5-E14152E7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DAA3-F2A7-45A5-97E8-A2C133AE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2572-DA2B-4B1C-8FA9-42C157F9E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2.01: Distance and Mid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480" y="380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quare has the vertices (1, -2)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7, -2), (7, 3) and (1, 3).  At what point do the diagonals inters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28240" y="38088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riangle has the vertices (1, -2)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7, -2), and (5, 3).  What is the perime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09480" y="380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for 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 - 3y = 16                    ½ x + y  =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ny two points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nd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anc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w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poi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w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ielle is 6 miles east and 14 miles south of the library.  Ashley is 8 miles north and 12 miles west.  Which girl is closer to the library, and by how many mi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oline ran 2 miles east and 3 miles south of the town center.  Marcus ran 1 mile north and 5 miles west of the town center.  If they want to meet halfway, how far would Marcus have to run to get to the meeting sp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istance between the x-axis and the line y = -4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8240" y="8377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ircle has endpoints at (-4, -5) and (7, 3).  How long is the radius of the cir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 X is between points W and Y.  I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5 a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is 8 then how long 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914400" y="1447920"/>
                <a:ext cx="6541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5"/>
              <p:cNvSpPr txBox="1"/>
              <p:nvPr/>
            </p:nvSpPr>
            <p:spPr>
              <a:xfrm>
                <a:off x="838080" y="1981080"/>
                <a:ext cx="6876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W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6"/>
              <p:cNvSpPr txBox="1"/>
              <p:nvPr/>
            </p:nvSpPr>
            <p:spPr>
              <a:xfrm>
                <a:off x="3260880" y="1447920"/>
                <a:ext cx="6872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point Q of the seg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(1, -7) and the midpoint is (-2, -5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3"/>
              <p:cNvSpPr txBox="1"/>
              <p:nvPr/>
            </p:nvSpPr>
            <p:spPr>
              <a:xfrm>
                <a:off x="6264360" y="803160"/>
                <a:ext cx="6541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46:10Z</dcterms:created>
  <dc:creator>Sharon Fieldman</dc:creator>
  <dc:description/>
  <dc:language>en-US</dc:language>
  <cp:lastModifiedBy>sfieldman</cp:lastModifiedBy>
  <dcterms:modified xsi:type="dcterms:W3CDTF">2011-05-04T14:23:06Z</dcterms:modified>
  <cp:revision>17</cp:revision>
  <dc:subject/>
  <dc:title>Goal 2.01: Distance and Midpoint</dc:title>
</cp:coreProperties>
</file>